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444-5713-4DA6-BF26-3D1C613BC7C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2BF-F67B-4159-8016-F00A4C1DE2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9670-1030-4445-A698-DF2A4E7BA93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F35-683D-425E-A2F2-EFFC1C97E8B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2FA5-E1D3-4829-AB64-34B353A869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54D-24EF-4465-A957-DCF48146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986-494B-4AD3-B3E4-56AECD17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B4C-6DF6-463F-9F46-6E36F1EE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CB9-DB5F-41EA-945F-3340D212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BC8-216D-48B4-A982-BC246FB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54B-2543-40CF-9D1E-F79A922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3ED-9F7C-4C13-AF4A-52994FDD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35A-211B-465B-9112-88F4968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9C4-B9EA-42C7-9A9F-6662A5FA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B72-783E-4B4C-A5E3-A6440D8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45F-C410-4CED-9522-E1704DF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4A1-FE88-4607-8E11-04569E6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179-F3E4-4A2A-9EB0-56039BC036E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 e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dcterms:modified xsi:type="dcterms:W3CDTF">2019-02-27T21:02:25Z</dcterms:modified>
  <cp:revision>23</cp:revision>
  <dc:subject/>
  <dc:title>Apresentação do PowerPoint</dc:title>
</cp:coreProperties>
</file>